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A66-392B-4195-8F70-258DD925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9E1-7C75-4C7D-91CC-50B46361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90B-7BA7-4946-AB2F-F78E2E5D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90E-634E-4E3D-A5AA-3A4A1169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E68-A7BD-4183-99BC-F927FD9E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257-1FC6-40C7-A675-CB527693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57A-15A0-490D-93EC-FB9FBD72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D06-F905-42E9-9525-FBB3AFE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9DB-428E-47F3-AB82-BA2D3D4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2FF-4103-4FE9-8509-8EEE35A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BEE-D6D7-4A5D-A791-17346B80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D3A-630A-45A3-961E-B70DA0B4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32E-0AFC-477F-A0EC-A8348604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END  50TH                                      I.B.M.                                                I.B.M.                                     INNELLAN                                             INNELLAN                                   INNELLA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NELLAN  150TH                                       INVERKIP                              INVERKIP  100TH                              KILMACOLM                                  KINGARTH                      KIRN  &amp;  HUNTERS  QUAY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0520" y="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1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N                                                       KIRN                                            KIRN                                          KIRN  100TH                                 LADY  ALICE                                LADY  ALIC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31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DY  ALICE  50TH                          LADY  ALICE  75TH                              PARKLEA                                 PARKLEA  50TH                          PORT  GLASGOW                           PORT  GLASG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21600" y="333360"/>
            <a:ext cx="8589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1800" y="1989000"/>
            <a:ext cx="1116000" cy="109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924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9760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60888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193240" y="2349360"/>
            <a:ext cx="841320" cy="8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1800" y="335772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35002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89240" y="3357720"/>
            <a:ext cx="113328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3357720"/>
            <a:ext cx="126180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04852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216160" y="530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31800" y="5084640"/>
            <a:ext cx="1133640" cy="136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657600" y="537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168880" y="537372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608880" y="530064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04852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26028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81600" y="11592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657600" y="26028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2133720"/>
            <a:ext cx="911160" cy="102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549360"/>
            <a:ext cx="109692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216160" y="189000"/>
            <a:ext cx="99864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9:38:52Z</dcterms:created>
  <dc:creator>JOHN YOUNG</dc:creator>
  <dc:description/>
  <dc:language>en-US</dc:language>
  <cp:lastModifiedBy>JY</cp:lastModifiedBy>
  <dcterms:modified xsi:type="dcterms:W3CDTF">2007-10-19T14:04:52Z</dcterms:modified>
  <cp:revision>33</cp:revision>
  <dc:subject/>
  <dc:title>No Slide Title</dc:title>
</cp:coreProperties>
</file>